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83974-F161-4AD7-86FA-4BA3B3ED24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F85B2-DF90-4BB0-9D5F-A1DA08381A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F2033-CFB7-424B-956A-638E9910DF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7B537-C3AF-4026-8742-FBDC0CCE2C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9D8A2-746A-41FE-96E7-F5952B532F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9F0CE-BC4F-41DE-BD8F-A899CDFE09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340A9-A619-455F-8EC6-8E254DB104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CF20C-0D4C-4A3D-9905-E74AFFB830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670F6-CA97-49DB-97FD-F7D481BBEF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CE470-47B7-41F8-8C5D-AC8D30DD35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843AD-7F36-4776-9BF0-2DD0CED4F4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FF0A0-7AEB-48D6-AC8C-B074EE08D6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B91AF-64F7-4C5D-9705-7352B064B7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2DB35-9393-46F0-8D69-95190CBA7E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098F9-60CF-4F98-BA31-12EEFB89AC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4982C-326C-48CE-995E-3E7B845DCB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7D073-31A0-49B6-8DF3-354E75DFB3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2D9FE-0B0A-466F-BE8B-53826BD75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7C9D4-4236-48DD-B011-A97734B44E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A79D6-7867-4FCE-9206-A13EDC23E2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F0132-0ED9-4E9D-B9EB-F8A8B1D6DF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4B5BB-3A90-4D6B-9799-9D0105ED32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FD5C4-C505-405B-8E83-9CFFAA576C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A5292-CD70-4E82-9378-EEEBF8D5FA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CE319-1247-4E29-B7A0-1B0B5ABD25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89F1-54A4-414B-BAB1-102CF0C18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F780-FAD4-4D6D-B90B-15383A77B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EA8D-B373-4B3E-99FA-5C7256986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9745-C6B1-41ED-88F3-74DBC5452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4DBA9-3B12-4428-B4C0-9C2779D80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4053C-7B79-4548-AAB0-B1D82A282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40879-5FDB-46F9-AB99-231078D8C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2323D-D739-4FF7-B7BD-93A456B39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BD73B-5375-46B6-A33E-2DC136B60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591F2-C00C-49CE-8A13-1A1772122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370AB-27EC-4CF6-BDDE-7FB824817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7112-9175-4F91-A70C-5ABC43C52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6C43E-2AFC-4738-86DF-69D9633E9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B6985-ED2D-412F-9415-FCBAAF4E4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BD82C-2C01-44DE-88A3-4C656D61E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479CB-7019-4183-B2AE-8C04A2E11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F3A5C-50E2-4FF3-8275-142457953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C1616-A83B-42E2-89A7-9119C23D4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07971-2421-42ED-B370-FAEFAD026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9FD2A-70A8-48E0-8123-18F154D9E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4296D-2266-4F9C-A472-1FC09ABD9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9AA9E-AE91-44E6-AE6B-69B426D78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9F5D-C774-4049-BDC2-CE8E25EA6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3731F-4916-4207-B9FA-80F871C45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0367C-384C-4B22-A2EE-6E77AD919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E6201-178B-4B85-B0ED-B42E0609B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24306-543C-4E82-AA36-01F47CA1B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6B135-7FFF-4015-AAB6-B15A739C5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CC611-7B2C-4ED7-9A0B-DCC47950D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1E75C-DF13-4CDB-B59D-7F7E83B1F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352A-F984-4D61-9223-3A3BEEE2C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74EE-690F-4413-A4B7-B413975EA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5B54-09F0-427D-A16D-14ECA77A2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862A-D5BC-4B87-822D-09048E78E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D016-1442-40D5-97F5-E9E4029B2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FB12-F428-4267-8C91-9CBA7A764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7D483-5497-411E-A7B2-33BEBE5ABE7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D8403-79DA-4036-B92F-809F41B8075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2C5AB-9623-4F20-94A2-2CDDF3AB485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hapters 1 - 3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asic Issues in Environmental Scien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vironmental Systems Cha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320" y="1676160"/>
            <a:ext cx="76993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mboseli National Park (case stud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What happened and whose fault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648320" y="1676160"/>
            <a:ext cx="4194000" cy="21351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4648320" y="3963600"/>
            <a:ext cx="4194000" cy="21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ys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pen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os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648320" y="1676160"/>
            <a:ext cx="4194000" cy="21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01680" y="151920"/>
            <a:ext cx="8540640" cy="594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ystem responses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 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Negative feedback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most comm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an increase in som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utput will lead to an eventual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crease in that output - stabiliz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301680" y="304560"/>
            <a:ext cx="8540640" cy="57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 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Positive feedback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output increas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ads to more output increas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problem intensifi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lobal Climate Change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hich feedback system will dominat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56419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+ Positive?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- Negativ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648320" y="1676160"/>
            <a:ext cx="4194000" cy="44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ystem Changes and Equilibri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Deple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 output larger than inp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s: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-47520"/>
            <a:ext cx="8510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1680" y="228600"/>
            <a:ext cx="854064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Grow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 output smaller than inp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s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ns on harvestin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teady Sta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 output = inp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s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tainable pract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atural and Human Impacts on Syste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natural disturbances tend to be in balance and life has often co-evolved with th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y importan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lays in Respon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1680" y="1142640"/>
            <a:ext cx="854064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ponses to change not always immedi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 be non-linear, effects not seen for a whi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ce seen, may be difficult to corr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uman activity is beginning to affect environment globally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pulation growth = underlying ca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ustrializ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sustainable pract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idence Ti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1680" y="1295280"/>
            <a:ext cx="8842320" cy="48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: Polluta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ick flow through (short A.R.T.) affects system quickly but recovers quickly if problem remedi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648320" y="1676160"/>
            <a:ext cx="4194000" cy="44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01320" y="457200"/>
            <a:ext cx="7318440" cy="56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low flow through (long A.R.T.) takes a longer time to show effects but longer to recover even after problem remedi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vironmental Un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676160"/>
            <a:ext cx="777564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erything affects everything else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nges in one part of system has multiple effects in that system and other system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648320" y="1676160"/>
            <a:ext cx="4194000" cy="44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niformitarianis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1680" y="1371600"/>
            <a:ext cx="8540640" cy="47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cesses happening in the present were also happening in the p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magnitude and frequency of events may vary over time, but the processes are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5104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a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1680" y="1218960"/>
            <a:ext cx="854064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rth and all  living things are part of a singl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fe greatly affects the system and regulates the planetary environment to help sustain lif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lue of Environmen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1680" y="1219320"/>
            <a:ext cx="85406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Utilitari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Ecological justif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Aesthet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Mor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cautionary Prici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there is a global threat of serious or maybe irreversible environmental damage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should not wait till all the scientific evidence is in before taking steps to prevent the potential problem from occur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lue of Coral Reef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Threatens Them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ientific Knowledge is Critical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rolled Experi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ependent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pendent variab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r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t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alitativ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vironmental science in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7851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med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lit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cision ma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648320" y="1676160"/>
            <a:ext cx="4194000" cy="44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14:29:50Z</dcterms:created>
  <dc:creator>tosborne</dc:creator>
  <dc:description/>
  <dc:language>en-US</dc:language>
  <cp:lastModifiedBy>tosborne</cp:lastModifiedBy>
  <dcterms:modified xsi:type="dcterms:W3CDTF">2010-09-10T21:58:50Z</dcterms:modified>
  <cp:revision>22</cp:revision>
  <dc:subject/>
  <dc:title>Basic Issues in Environmental Science</dc:title>
</cp:coreProperties>
</file>